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FA888-B63D-4DD4-9C72-F844AD2207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A3FAF-A9E2-483D-8AAF-ADE8B56222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AEC14-D59A-46A9-AAFA-9FBBB4FDBD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B3963-B701-43AE-8DE3-9E947FAC69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FB413-B1D8-4670-8EFE-CECD76191D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0567-2E46-42C7-B8DD-80CBC5596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0835-7344-4E59-90C2-08662C30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0C62-BB36-41A8-9B5F-F99D2FEC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43BF-4490-420C-A437-E41B7B71C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CB14-DEBE-44D3-AE54-80007D28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790F-8F3A-4B2A-AD2C-97394004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7391-FE89-4CC8-BD17-32FED03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EEC8-9F3B-4EA1-8AAF-38FE1BE4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0B6D-E87B-4EC2-9EC0-1FB2CE9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BDD6-C883-4C73-B98C-9D8812C8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D856-5D30-459E-9562-C38E030D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E064-866B-4826-B7CA-1539EEA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2ACBCF-A30F-4195-AF9C-37A955C1EA8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197000"/>
            <a:ext cx="7956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interno de la Tierra, llamado energía geotérmica, aumenta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fundidad y es el motor de la dinámica interna de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desplazamientos se denominan corrientes de conve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geo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3348000" y="234000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755640" y="3933720"/>
            <a:ext cx="2521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tenso cal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manto profund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e que las roca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gan men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sas y asciendan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superfic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59640" y="2637000"/>
            <a:ext cx="24843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cercarse al manto superior, las rocas se enfrían y se hacen más densas, volviendo a hundirse hacia zonas más profundas, donde vuelven a calentarse y ascen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660760" y="4826160"/>
            <a:ext cx="1838160" cy="145800"/>
          </a:xfrm>
          <a:prstGeom prst="rightArrow">
            <a:avLst>
              <a:gd name="adj1" fmla="val 34648"/>
              <a:gd name="adj2" fmla="val 132319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10800000">
            <a:off x="4856040" y="3132000"/>
            <a:ext cx="1627200" cy="146160"/>
          </a:xfrm>
          <a:prstGeom prst="rightArrow">
            <a:avLst>
              <a:gd name="adj1" fmla="val 38093"/>
              <a:gd name="adj2" fmla="val 140554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324000" y="400536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227640" y="270828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1T10:23:16Z</dcterms:modified>
  <cp:revision>44</cp:revision>
  <dc:subject/>
  <dc:title>Diapositiva 1</dc:title>
</cp:coreProperties>
</file>